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1.jpeg" ContentType="image/jpeg"/>
  <Override PartName="/ppt/media/image9.jpeg" ContentType="image/jpeg"/>
  <Override PartName="/ppt/media/image1.png" ContentType="image/png"/>
  <Override PartName="/ppt/media/image2.jpeg" ContentType="image/jpeg"/>
  <Override PartName="/ppt/media/image3.wmf" ContentType="image/x-wmf"/>
  <Override PartName="/ppt/media/image13.jpeg" ContentType="image/jpeg"/>
  <Override PartName="/ppt/media/image4.wmf" ContentType="image/x-wmf"/>
  <Override PartName="/ppt/media/image5.wmf" ContentType="image/x-wmf"/>
  <Override PartName="/ppt/media/image6.wmf" ContentType="image/x-wmf"/>
  <Override PartName="/ppt/media/image7.gif" ContentType="image/gif"/>
  <Override PartName="/ppt/media/image12.jpeg" ContentType="image/jpeg"/>
  <Override PartName="/ppt/media/image8.wmf" ContentType="image/x-wmf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19925" cy="9305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2DB2-170D-4EF2-B8DB-E07ADF6CE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9479-54CD-40EC-8CEE-39ED0A78E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4992-A54D-4B06-83D2-60F167638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E5E1-FD06-46DE-BD12-0C492BFE9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AA6F-A2B3-4203-9D5C-9A6D28A38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014F-43A9-45C3-BEB0-97929FD2D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D46A-142E-440B-855A-288044519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74A0-1EE9-49F4-B990-F1CB47609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5A16-EA61-4DA6-AD06-08DC10E77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3507-183C-4C01-9018-AFA368993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9F78-A238-456A-8EE4-3179EE4FB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7499-7134-4883-95FF-5DA29FC82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7FB0E-3CE6-4D8F-81AF-D56E80445F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gif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ow a Bigger Bub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ndra Patti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324480" y="0"/>
            <a:ext cx="2819520" cy="28195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04920" y="380880"/>
            <a:ext cx="1741320" cy="21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was flabbergasted by the conclusion.  Orbit blew the biggest bubble.  A gum that is meant for chewing and not blow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286000" y="3200400"/>
            <a:ext cx="38098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4572000" cy="28195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0" y="4191120"/>
            <a:ext cx="4572000" cy="26668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4572000" y="4191120"/>
            <a:ext cx="4572000" cy="26668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4572000" y="1371600"/>
            <a:ext cx="4572000" cy="28195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0" y="15228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few of my participan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brands of bubble gum produce the biggest bubb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04920" y="2819520"/>
            <a:ext cx="1504800" cy="3510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981080" y="3962520"/>
            <a:ext cx="1936800" cy="24541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3962520" y="2514600"/>
            <a:ext cx="2257200" cy="23162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6705720" y="2286000"/>
            <a:ext cx="1828800" cy="24382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562720" y="4648320"/>
            <a:ext cx="1519200" cy="20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think that Double Bubble is going to make the biggest bubb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514600" y="3657600"/>
            <a:ext cx="350532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er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gir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bo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bble Y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icy Fr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bba Bub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uble Bubb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ard stick/ measuring ta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nc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800600" y="2209680"/>
            <a:ext cx="383544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ced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 4 people of each gender who think they are good at blowing bubble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 Bubble Yum, Hubba Bubba, Juicy Fruit and Double Bubble and have each person blow the different types of gum at different tim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each blow 3 bubbles of each kind of bubble g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sure how long each bubble is in c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457200" y="1600200"/>
          <a:ext cx="8229600" cy="4200480"/>
        </p:xfrm>
        <a:graphic>
          <a:graphicData uri="http://schemas.openxmlformats.org/drawingml/2006/table">
            <a:tbl>
              <a:tblPr/>
              <a:tblGrid>
                <a:gridCol w="1496880"/>
                <a:gridCol w="1873440"/>
                <a:gridCol w="1496880"/>
                <a:gridCol w="1498680"/>
                <a:gridCol w="1863720"/>
              </a:tblGrid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ryn Gillesp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icy Fru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b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t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uble Bub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st 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nd 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rd 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cm av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6 cm av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3 cm av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6 cm av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llas Rhod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st 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nd 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rd 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 cm av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3 cm av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 cm av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2 cm av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457200" y="1600200"/>
          <a:ext cx="8229600" cy="5235480"/>
        </p:xfrm>
        <a:graphic>
          <a:graphicData uri="http://schemas.openxmlformats.org/drawingml/2006/table">
            <a:tbl>
              <a:tblPr/>
              <a:tblGrid>
                <a:gridCol w="1566720"/>
                <a:gridCol w="1960560"/>
                <a:gridCol w="1567080"/>
                <a:gridCol w="1568520"/>
                <a:gridCol w="1566720"/>
              </a:tblGrid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reckyn Fo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icy Fru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b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t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uble bub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st 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5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nd 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rd 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3 cm av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3 cm av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5 cm av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6 cm av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yde Sundhe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st 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nd 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rd 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 cm av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6 cm av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 cm av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8 cm av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457200" y="1600200"/>
          <a:ext cx="8228880" cy="4525560"/>
        </p:xfrm>
        <a:graphic>
          <a:graphicData uri="http://schemas.openxmlformats.org/drawingml/2006/table">
            <a:tbl>
              <a:tblPr/>
              <a:tblGrid>
                <a:gridCol w="1645200"/>
                <a:gridCol w="1646280"/>
                <a:gridCol w="1645560"/>
                <a:gridCol w="1645560"/>
                <a:gridCol w="1646280"/>
              </a:tblGrid>
              <a:tr h="1055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uicy Fru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rb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t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ouble Bub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56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endrah Pay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1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st 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1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nd 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1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rd 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98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3 cm av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6 cm av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6 cm av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6 cm av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0" y="1600200"/>
          <a:ext cx="8838720" cy="2971800"/>
        </p:xfrm>
        <a:graphic>
          <a:graphicData uri="http://schemas.openxmlformats.org/drawingml/2006/table">
            <a:tbl>
              <a:tblPr/>
              <a:tblGrid>
                <a:gridCol w="1609920"/>
                <a:gridCol w="2005560"/>
                <a:gridCol w="1607760"/>
                <a:gridCol w="1609920"/>
                <a:gridCol w="2005560"/>
              </a:tblGrid>
              <a:tr h="1160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ylan Barr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st 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1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nd 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rd 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 cm av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3 cm av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6 cm av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cm av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1752480" y="4648320"/>
          <a:ext cx="5181840" cy="1782720"/>
        </p:xfrm>
        <a:graphic>
          <a:graphicData uri="http://schemas.openxmlformats.org/drawingml/2006/table">
            <a:tbl>
              <a:tblPr/>
              <a:tblGrid>
                <a:gridCol w="1295640"/>
                <a:gridCol w="1295280"/>
                <a:gridCol w="1295280"/>
                <a:gridCol w="1295640"/>
              </a:tblGrid>
              <a:tr h="747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uicy Fru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rb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t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ouble Bub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35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01 cm av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9 cm av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4 cm av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cm av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19:55:01Z</dcterms:created>
  <dc:creator>USD376</dc:creator>
  <dc:description/>
  <dc:language>en-US</dc:language>
  <cp:lastModifiedBy>USD376</cp:lastModifiedBy>
  <dcterms:modified xsi:type="dcterms:W3CDTF">2011-01-26T16:01:55Z</dcterms:modified>
  <cp:revision>11</cp:revision>
  <dc:subject/>
  <dc:title>Blow a Bigger Bubble</dc:title>
</cp:coreProperties>
</file>